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A2D-6FE2-4D9B-9EEB-EDF3E08E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3B1-522E-4127-9151-5002481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2E0-4281-4909-BDEA-ED696D4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60D-3293-4029-961F-8F5C3330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8F7-7746-45A1-BE86-289EC88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79A-7825-44F2-9B82-49F36FE7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C37-A545-4A6C-86B6-F76F3CF7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72B-F93A-4AB1-B172-8EE43BA3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585-BF79-45DA-AA33-7BAFA014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03F-B1AD-40A3-94E5-12E8644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034-B5E4-4D75-9325-9077379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B6F-BF88-480E-8CB0-54568D4E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0DB-97F6-4E76-9459-228143D6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2666880"/>
            <a:ext cx="2286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ild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274320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676520"/>
            <a:ext cx="1752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rehensive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666520" y="2209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657600"/>
            <a:ext cx="15242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920" y="36576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657600"/>
            <a:ext cx="12956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ment T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657600"/>
            <a:ext cx="14475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572000"/>
            <a:ext cx="9907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4495680"/>
            <a:ext cx="1447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486400" y="2971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371600"/>
            <a:ext cx="16765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equate Yearly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24280" y="1981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19051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133720"/>
            <a:ext cx="11430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3915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739116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1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5935680"/>
            <a:ext cx="736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4100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ques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w significant is accountability in the No Child Left Behind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phras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no child left behind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18:47Z</dcterms:created>
  <dc:creator> Robert B. Niedbala</dc:creator>
  <dc:description/>
  <dc:language>en-US</dc:language>
  <cp:lastModifiedBy> Robert B. Niedbala</cp:lastModifiedBy>
  <dcterms:modified xsi:type="dcterms:W3CDTF">2008-11-11T23:28:20Z</dcterms:modified>
  <cp:revision>18</cp:revision>
  <dc:subject/>
  <dc:title>Slide 1</dc:title>
</cp:coreProperties>
</file>